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0B4-9E21-4CEF-93C1-763D5E61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6DE-0910-4445-9D50-C3E38A4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16AD9-F0EA-4470-A7A1-DD1C2EFB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BC346-0923-4AEC-B0EC-5F0D08CD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314A5-F533-4B77-9A91-9549F9D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36F7C-E779-4022-AF74-FD6C643B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B7235-A9D6-41DB-B708-FEC3153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6282-C99A-4683-A525-B0D1613E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FEBFC-D8EA-456B-BE77-081C4E90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8082C-CC10-49BF-8436-5188EF68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CFC4C-02FB-4241-9AA2-7AF397B2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242AA-DE0B-4D12-A66A-1BE8059E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C42-D4EE-445B-AB22-9A6E55AA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D60A8-B8C9-4633-AFFF-8884B488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6C7E6-2EE3-4CDD-800C-9047853D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22676-F4DA-4857-9B5E-947D0D5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FEAE5-6D93-4513-8D4D-FC9F935D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C13C3-DB99-484B-8186-C52727CA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F6AEE-617A-4159-AAA8-06F76287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C2B40-5B7D-4DB3-B006-1B6FD5B0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0BCA0-49AA-440F-A671-B4027E9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F21BF-AFE4-4141-A6E8-51A3EA61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BA933-D123-4F55-B5CE-261FF40C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1C5-0BCD-40C1-8C5D-7E1869A8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F0AD4-66CC-4B8B-8619-9785BCAB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5E6AC-AA6F-4FF9-9562-9363C718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CB2A4-C452-4517-909E-651AB701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312E7-C54B-4894-A7AF-05AA46A3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F1AD3-6C42-4937-981F-DE2C677F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7EF29-0D9E-470A-B56F-A7A6445A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93558-C641-40FF-8BB7-0E35DADB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E9C49-D350-4EAD-B37F-DD99FBBF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63FE6-DBED-49E6-8A63-0337FDC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96B46-A7E5-431E-84DC-6C956B4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96CE-D2D9-4A8E-ABAA-8C74D28A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4F421-F3D6-47E9-8C9C-B144A73B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7AEBD-6A39-47D2-8D3E-5CA9F81C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A20E9-AE34-4898-9F1E-CA30BB3D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5F3A3-8230-471B-8124-1C113629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A1717-89A6-4293-A40F-4174F5F2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DC67-0523-4DCD-9ED1-F47F4245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F9731-AE4A-475C-BCB6-02DCEAB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83DFB-3086-4F44-A940-0BAA4C81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B33A3-14A2-4EFE-84CE-8324942A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3F25F-6650-4F04-AF8D-5B987D7C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059B-3497-4357-8BD7-25D7583B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E197E-3960-4C5D-B6EA-E008DD2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690AE-774A-4064-A887-20B2DB75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CA5FF-B7F5-47F8-AE6A-8A23C9D1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E4D15-5292-4564-A174-3924E7FB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3BB4C-496A-4364-82E8-D1B3CA9A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76819-3584-494A-8613-06E4131F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E19CC-3852-4DE2-8E48-AF285295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917E5-415A-49E0-881C-595F8627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DA8E1-73F7-47BE-902E-5456DD18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D7299-4E1A-4157-A237-CBECEA3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1296-2FB1-46DD-8D6F-4492E3A7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0B9B6-661A-4B9D-A099-2149922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394D3-D95A-4BE8-B941-0A61E1BF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CE86B-8461-410E-8318-6860FCB2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F5DB3-AE2A-4FD0-80C4-D63E73F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EBCFE-FEDE-4565-9AD9-73DB66B3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BDC87-93BB-4BBC-BB84-2956FE53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658FF-7578-4766-B6BF-00A2B7AA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2FA7B-A164-4014-9450-A38ADEDB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8BD20-5E0F-4312-89BB-0180F5A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B7F1D-EBFD-47F0-864F-484849A5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C205-FC0A-4A74-A58C-2D4D818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B62C2-9B96-45E4-95BE-76B23785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38894-1774-4F71-9DFE-52A3729D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734C6-723C-4BCA-943E-AE60C8D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286BC-8695-4AED-A172-EC63D527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1E513-5D1D-46EB-AFA5-612E325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7D788-36A3-4BB5-8800-5B5A284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48002-3152-494F-B7A9-45D52323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02A3A-BAAA-4778-8E79-6037DC72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B49E0-F2AA-49C4-A8E5-F566445E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655D6-56B2-4774-87F3-D0F7ADB0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39AE-5F7B-4C6F-A038-C0AFC84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1A81B-AEE9-42DF-B7B9-3C96E994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7EFA2-F5FE-44E7-8511-B0B54A70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9EADB-B51E-466F-9F88-07B5C294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C32F7-5E52-4272-8CF2-21FD1ACE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5255B-3AC5-4A63-A16E-4440894E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B999E-595A-41BF-BDAA-48324C2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37047-1768-4C4A-BEFF-4E69149A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4FC6B-B878-40CE-A7B3-2B1D92F4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5B6DF-0CC6-47A5-97F8-ACBC7523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95874-41AD-492A-A195-BC117EE1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8616-2D35-4B9B-B598-4ADB6AB2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ABB99-2B01-4FE2-BA01-7439F28A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87B8F-0EB9-42AB-89AE-902130DE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B97BF-E12D-4BAE-88C5-281D77F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71C97-BE80-4DDD-91C2-0CEC3DB7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5157C-2439-46C0-9F78-6C27253C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D863F-17AE-4D16-A5D9-101946C8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CDB43-61DA-4950-A1AC-082DAD5C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56EDB-1E9E-46F9-9C59-3BB23B2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EAB14-9655-4BC8-82D7-9FD2CEB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CFB20-DD2C-41FE-B127-434C14DF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5BEB-8F92-4E75-8DB0-7626BD4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ACABC-63D6-4F17-8D77-1693ECD1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D3C83-5CAA-4453-9A7B-EB6F675F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875C0-6CE0-45A2-B525-2D1706E4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06321-C097-4565-8C96-5DA71F5A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755B8-1EA4-45BE-A53E-AEA2737A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9636D-5572-4BCB-B90F-9CFC213C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86AA8-D75A-4D33-AA07-734F1493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F081D-DBF3-48A0-B604-3016099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D4F27-9E7E-4FB5-8940-AC63822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E0891-269D-4473-BD16-656B817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3C9-6832-409C-986A-22B4429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504-CC47-4D94-963C-2D2211B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FAFE6-D8D2-46B6-B677-B4D30B01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8B161-F879-4181-B8F3-20410F1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96373-3713-4B40-B132-BEF4E61E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24691-F7F8-4E0A-8686-680F49FD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CEC5D-CF28-41D5-A6B9-EB801C2F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FAA13-7436-4A56-A56B-EF3DBD3F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BCDC6-92CF-4169-8E11-2CBD1E40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E6117-E2D5-4F56-8AAF-541DE604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7A811-0ED9-4398-9D2D-77AE4BF8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7E9D3-B37C-456F-BAE2-65027AB2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F406-DCB3-45BB-B736-D1B21A65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10AF1E-C60E-4973-ACB4-3FABD4F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94510-82B5-4477-A888-C37E76F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0EF5EE-C63F-4F9F-9066-D9CEE29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0EC9B-FF12-4D3E-A92F-64EF4B7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54C97-6C99-42F9-87F5-19EEB55D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B2C4F-942C-4C5A-9B48-12754705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1A79F-80FE-4526-8C50-013DECBB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F382A-DA7B-4384-BB09-A9DB567C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9B493-E49C-4113-A525-1A578A14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556AC-AAFB-4FE0-B3D4-05612CFA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333D-D292-4DEC-9689-B98B11A9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B4CC1-4970-4947-9005-342FB961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35000-2805-4664-91C1-8999C565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167C4-6AD4-4EA7-85BC-12C1EC6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860B6-F5EC-4589-A2C4-A4DC8C7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4F048-A3A7-4396-8062-5521EB0A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CC4C2-8037-4D17-9367-4475BE90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21F4D-3361-4E87-ABA7-FAF09EDD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E7BA6-D8D6-4594-B813-53DE4B8C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805B40-37FC-41AA-9177-E4D90396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8DDF53-8957-4DE3-BD0B-DB3EFFFA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610C-CAE5-4682-85D6-FEFDDB2B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805E7-BD1D-4DBD-8827-6EBC79EA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BB4CA0-860C-4740-B9AD-394659DA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DC9D3-94DA-4C30-B5C4-304DF652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B0AB1-A069-4027-9FC1-B2F25AFD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BB20FB-127F-41FD-9120-EB595C8F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7B625-A1D5-4459-8793-910C35A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C5F32-7472-47A7-AC0F-12BDFCB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1291B8-E9AD-43CC-A7AD-E15459E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8C7FB-761A-420B-84C3-10A2D08A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D6C7B0-F955-4706-849A-C46CFBC2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22F8-975D-4B49-891D-ABA11AE0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2E960-220F-4830-88D6-25B8FAA2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CF2EA-D3E1-4D95-921C-71DE4FC1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1BECB-057A-40B0-9228-9F0486BC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FFC1DA-F19C-4FDD-A776-F254508C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8CAA0-A383-4041-8C89-5BC33245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A29DFD-70F6-42D4-A3BE-4E7343DD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52026-A594-4035-BB08-83A9C706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35EB5-828A-4336-B506-74364FD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7B4BE-A973-4A80-B5F7-88F36C5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3F54A7-E37E-458E-95C3-37F7161E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01A3-E877-43AB-8DF2-732ABB66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A9B18-626C-42B3-82E8-55D086E6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C6F6F2-3116-4309-A3A7-9E3FF337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F7877-FA7E-4933-8F04-8F78BA59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2698-E1DF-442B-BD80-D8D4A0B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86A7-1CF4-43A0-BD03-375880F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DBCA-C8FE-4B94-AAF0-C024CD85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C57F-AC38-4DB2-B3DC-23A19F3D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55E-2E9F-4AA9-AECB-CBFD46A7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3EA8-7AA1-4852-8BC7-BBE1ACB4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4B5E-4342-4DDF-B8AF-3C389487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D7E4-16BE-4F5C-9837-048ACF3E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8F84-5072-4B1A-96FD-45F1EEB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7E88-7419-4420-A941-8FE466E9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AEB1B-C811-4329-82DD-059D0083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9A67-148B-46E9-98ED-D04B8E1A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D39A9-C232-4046-9CEB-75DC2332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28295-7B69-4F22-B412-1BB36368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4322-27D6-4C46-9BFF-17354A75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26B-1924-42F7-868A-07B2D2CC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F764-A266-448E-985A-3203AD75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15972-C8B5-4572-ADFD-170B181E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1E12-4309-4598-97C1-0E4C38DA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BC02-0F7C-4B74-9560-8402462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7E7CB-194C-45AB-B158-F2A00FE1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40567-A9D9-4F20-A394-ACDEDF5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BA78-DA60-4F8C-9F89-E841DDEE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1E0C7-F5D9-4F2F-877F-95C2771D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693C-EACC-4FFE-B25B-4AA7B23E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9ADB9-5F4E-4197-984E-C2D16DBC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378-6AD5-429C-B6A3-AC5C6E88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7DE0-AA65-4D38-BB3A-747D19E5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A98BC-4B22-4523-ACA6-43C9DBB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2883-797B-4F68-82BE-92C8203D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27C4-A6EC-44BF-A916-108978A1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0F249-549C-448A-A544-9E8FCFCA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1531B-A10E-4152-8B02-191BA638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8782B-5232-4DE5-8B13-C4FF47CE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72F0-FEFA-4891-BAB0-DE4C504F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6AA6-21C9-4267-ADD6-9A1B3DF3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D7D7-A3FC-482C-BB5F-7DE301C5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CE9-C98A-4CA2-993A-D3564CA3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DC73-6A31-4F9D-99CA-7711FFEE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3C8E1-BC9A-4363-8500-23A0DDF5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17045-1C38-4A12-9DD1-885B529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5BE66-0915-49AA-A168-A51DFDBE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853E6-A45B-4024-B200-0C7E7EB2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41AFB-60F5-4723-ABCA-E198BEBD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545A3-26D5-4079-A88C-4EFB1BA1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9B9D-C9A5-4012-8426-AD3433FE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6E43-FF50-4D2C-84D6-27AA9AEA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42BC3-49E3-4AF1-9CCC-536EFC13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C39-6228-4E2B-A876-DAFA9894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CE82-0D53-4FE6-A3D3-E4FE1DC5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50FA-C687-478F-B2CC-1BB39388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4A2CD-2438-46FF-BF39-E21F029F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B7DDE-D714-4B60-95CB-1CD7C377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3B248-2BF6-4E61-B69A-0472A2C9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3F61A-FEED-487C-8FE9-24A7F0FB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EC792-4FCC-4591-83B9-1F08016D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7ABFA-2CB2-4C94-9244-93C3D94F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C81E-519F-48D6-A0A0-08FD9D3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FECF7-DAA5-495F-A288-BF9C67F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186-72E3-4520-9C22-8E4876E0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8B1AD-88D4-408C-A563-0A2560E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FD1EF-AF9A-460B-965B-FD8790DC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4DB63-3879-4F42-8E53-13D7685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5F5FE-8DBB-4CFF-BDEF-38835C51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02026-A6A3-4FB6-8A37-98EDC316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745B2-B22F-4863-A070-1202A7FB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4F6B4-2206-4C4C-9679-E3B0EBF2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67AD5-218D-4D3E-BEBC-C57F5180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C9E47-97D4-4961-A748-1195079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FD33D-D11E-4B22-9B4A-252BAB7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F18-F7D1-413B-8289-A9765B5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CF10A-4D58-4979-A91E-35564002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34595-6998-4151-9A9B-1041985C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7FF1D-A6DB-475F-998C-6651FB0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53F8-F0E2-4AB0-9375-A964123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15AB3-C675-4B2D-BA71-E4A9BA47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76E5F-3D7F-4C6E-A49F-532C86A8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0D2C-C080-4C67-9261-0E9FC5A8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86D29-B66D-4B71-AF93-94049830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E095D-0E49-4C82-84A5-912344E5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2EC1D-1A4B-46BF-BD78-8427C92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388C-8902-43DD-A83B-33E6E71A2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6391-C8D6-43A9-8935-871DB8CE19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AD9A-1F63-48A0-AF98-17759B228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FC6C-9836-4515-B578-61F7FD6A2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36A9-7DD1-4F90-B013-F38528A05F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F29-12B8-42A8-8FFB-C3C562EBBA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0F8A-130B-4C4E-8F64-9410C9608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F1C-7154-48BB-8A69-F8816DA848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7B9F-3E89-4478-A40D-EBCB2FC3A7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46A-62F0-4C83-BEFA-CCBA504CB9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1C5D-F78A-45E6-9405-EC6E61000D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C21D-F67E-42B8-A936-93D0A02EF8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EF0F-0AFC-42D4-8383-AE41EF2775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6B9-00C3-40AB-AE8A-AB6EEB7F5B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270-A57F-4936-9FF7-4971EEEDE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5717-C871-4A2D-9449-1DABBD20F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5398-7FE3-4063-A40D-E2A159DC0E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483-FAA8-4558-9928-8119819142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D36D-58E3-4F7D-B987-67ECD6E8EF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4BFC-738E-4C09-AC25-721CB19CA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3B0-DB96-4EF8-8E74-0BAF194734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0266-F577-437C-A833-ADBAA4F28C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3AB3-8D8C-4710-B6AA-41B4F6C9C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768D-8B03-4B74-ADCF-247A8842D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60CA-942F-45BA-9BCA-E7C9A3D91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A7D-D9E1-453E-8713-B5998F5A6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1A30-8EEA-4C72-B22E-C726C8D97F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6795-E41A-4CDD-9A64-F644FAA19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4025-43D0-41D7-AECD-7DA36EFE5D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09E4-C5F9-40AE-ADB5-54BAE294B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9780-624A-453D-9F1A-A2304BD73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6100-B1AB-41B2-A338-D0E0869FAD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AC17-2920-486C-907B-D55EF9353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6E20-E8FD-4831-83F5-A94B1CF92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A584-FE3D-4093-AFC1-0164780436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D1BA-3B96-400F-ABDC-4A51AFABF9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3B8-1FA5-454E-971F-CAA9E2AFE0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0E62-27F3-4EBE-A3C0-38179D5EE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0587-39F8-437D-887F-1A618DD5B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D855-1F6F-4D00-B27B-164E24D76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214720" y="3214800"/>
            <a:ext cx="5252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4400" y="1004760"/>
            <a:ext cx="9115200" cy="5639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7596360" y="2133720"/>
            <a:ext cx="1223640" cy="293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2247840" y="252900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372360" y="251316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2347920" y="28987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3132000" y="365904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6588000" y="36655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3193920" y="404028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7093080" y="403560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2987640" y="441180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12"/>
          <a:stretch/>
        </p:blipFill>
        <p:spPr>
          <a:xfrm>
            <a:off x="1692360" y="555768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3"/>
          <a:stretch/>
        </p:blipFill>
        <p:spPr>
          <a:xfrm>
            <a:off x="6588000" y="5553000"/>
            <a:ext cx="165600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4"/>
          <a:stretch/>
        </p:blipFill>
        <p:spPr>
          <a:xfrm>
            <a:off x="2411280" y="59389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15"/>
          <a:stretch/>
        </p:blipFill>
        <p:spPr>
          <a:xfrm>
            <a:off x="6084720" y="592920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16"/>
          <a:stretch/>
        </p:blipFill>
        <p:spPr>
          <a:xfrm>
            <a:off x="1908000" y="630864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17"/>
          <a:stretch/>
        </p:blipFill>
        <p:spPr>
          <a:xfrm>
            <a:off x="6227640" y="6308640"/>
            <a:ext cx="1224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8:29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